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060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20600" y="2157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20600" y="2614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0600" y="2878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600" y="31478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600" y="33764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0600" y="36050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0600" y="38336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0600" y="40622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600" y="42908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600" y="45194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47480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0600" y="49766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0600" y="52052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600" y="54338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600" y="56624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0600" y="58910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600" y="61196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600" y="63374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600" y="63482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37560" y="855720"/>
            <a:ext cx="239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49480" y="66204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S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2960" y="1079640"/>
            <a:ext cx="1298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840" y="482760"/>
            <a:ext cx="1108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BT-**-F-09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96240" y="482760"/>
            <a:ext cx="199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OBLIGATION:  $2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1240" y="1870200"/>
            <a:ext cx="54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04960" y="1870200"/>
            <a:ext cx="67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4560" y="2057400"/>
            <a:ext cx="30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11640" y="205740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8480" y="1879560"/>
            <a:ext cx="212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 PERFORMER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37480" y="1871640"/>
            <a:ext cx="2581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0 E. STATE ST. GLENNVILLE, GA 304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120" y="2155680"/>
            <a:ext cx="60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7800" y="2155680"/>
            <a:ext cx="6584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DER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5600" y="2155680"/>
            <a:ext cx="5443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9040" y="2155680"/>
            <a:ext cx="61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3960" y="2155680"/>
            <a:ext cx="6966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EDU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40240" y="2155680"/>
            <a:ext cx="772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 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04960" y="2155680"/>
            <a:ext cx="10180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CEIVING RE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9080" y="2384280"/>
            <a:ext cx="560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5120" y="2384280"/>
            <a:ext cx="617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02240" y="2155680"/>
            <a:ext cx="60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OUCH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168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5888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9576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2880" y="225756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3692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05200" y="2155680"/>
            <a:ext cx="55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39360" y="2448000"/>
            <a:ext cx="45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85040" y="2448000"/>
            <a:ext cx="61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70840" y="2448000"/>
            <a:ext cx="627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33600" y="2257560"/>
            <a:ext cx="70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EMA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240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361040" y="2361960"/>
            <a:ext cx="111888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02360" y="236844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080" y="238608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12040" y="238608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10360" y="238608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90840" y="261468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61468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8240" y="6442200"/>
            <a:ext cx="43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1760" y="6442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7120" y="6410160"/>
            <a:ext cx="52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SEP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52960" y="261468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2440" y="2616120"/>
            <a:ext cx="55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-09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4560" y="2616120"/>
            <a:ext cx="48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61760" y="2616120"/>
            <a:ext cx="48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79720" y="2616120"/>
            <a:ext cx="50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48720" y="261612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98840" y="2616120"/>
            <a:ext cx="50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7960" y="261612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8080" y="2616120"/>
            <a:ext cx="48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7560" y="2625840"/>
            <a:ext cx="48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41160" y="2616120"/>
            <a:ext cx="67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000" y="3159000"/>
            <a:ext cx="550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-09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6920" y="319392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$150  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56920" y="3191040"/>
            <a:ext cx="1267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FSET AGAIN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BT 15-**-F-09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33960" y="3632040"/>
            <a:ext cx="98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 LE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TD 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28280" y="646416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70200" y="2610000"/>
            <a:ext cx="56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539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49800" y="2625840"/>
            <a:ext cx="527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37600" y="2625840"/>
            <a:ext cx="437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46000" y="2625840"/>
            <a:ext cx="661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$2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060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0600" y="2157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0600" y="2614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0600" y="2878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0600" y="31478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0600" y="33764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0600" y="36050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0600" y="38336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0600" y="40622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0600" y="42908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600" y="45194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0600" y="47480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0600" y="49766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600" y="52052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54338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0600" y="56624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0600" y="58910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600" y="61196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0600" y="63374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0600" y="634824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37560" y="861840"/>
            <a:ext cx="239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S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9840" y="668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S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3320" y="1085760"/>
            <a:ext cx="1298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200" y="488880"/>
            <a:ext cx="1108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BT-**-F-09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96240" y="488880"/>
            <a:ext cx="199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OBLIGATION:  $75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1240" y="1876320"/>
            <a:ext cx="54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05320" y="1876320"/>
            <a:ext cx="67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4560" y="2057400"/>
            <a:ext cx="30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11640" y="205740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8480" y="1898640"/>
            <a:ext cx="212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 PERFORMER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39280" y="1898640"/>
            <a:ext cx="274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30 CANNADY AVE. PEMBROKE, GA 313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0" y="2162160"/>
            <a:ext cx="60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8160" y="2162160"/>
            <a:ext cx="6584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DER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55600" y="2162160"/>
            <a:ext cx="5443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9040" y="2162160"/>
            <a:ext cx="61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83960" y="2162160"/>
            <a:ext cx="6966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EDU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40240" y="2162160"/>
            <a:ext cx="772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 AMOU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05320" y="2162160"/>
            <a:ext cx="10180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CEIVING RE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39080" y="2390760"/>
            <a:ext cx="560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5120" y="2390760"/>
            <a:ext cx="617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02240" y="2162160"/>
            <a:ext cx="60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OUCH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168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5888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9576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2880" y="226368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3692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05200" y="2162160"/>
            <a:ext cx="55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39360" y="2454120"/>
            <a:ext cx="452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85040" y="2454120"/>
            <a:ext cx="61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71200" y="2454120"/>
            <a:ext cx="627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33960" y="2263680"/>
            <a:ext cx="701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EMA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2139840"/>
            <a:ext cx="0" cy="417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361040" y="2361960"/>
            <a:ext cx="111888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2360" y="236844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88080" y="238608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12040" y="238608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10360" y="2386080"/>
            <a:ext cx="0" cy="394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0840" y="261468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61468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8600" y="6448320"/>
            <a:ext cx="43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760" y="644832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7480" y="6416640"/>
            <a:ext cx="52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SEP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52960" y="261468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2800" y="2622600"/>
            <a:ext cx="55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-09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52000" y="2622600"/>
            <a:ext cx="59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2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9200" y="2622600"/>
            <a:ext cx="59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5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79720" y="2622600"/>
            <a:ext cx="50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$1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48720" y="262260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80360" y="2622600"/>
            <a:ext cx="437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$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98240" y="262260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14680" y="2622600"/>
            <a:ext cx="533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$135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28320" y="262260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95520" y="2622600"/>
            <a:ext cx="59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7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5000" y="2622600"/>
            <a:ext cx="59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0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03720" y="2622600"/>
            <a:ext cx="74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st Par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56920" y="3197160"/>
            <a:ext cx="1267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FSET AGAIN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BT 15-**-F-09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34320" y="3638520"/>
            <a:ext cx="98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 LE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TD 1 DEC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28280" y="6558120"/>
            <a:ext cx="297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7:45:30Z</dcterms:created>
  <dc:creator>sfc byer</dc:creator>
  <dc:description/>
  <dc:language>en-US</dc:language>
  <cp:lastModifiedBy>Administrator</cp:lastModifiedBy>
  <cp:lastPrinted>1999-12-03T14:26:39Z</cp:lastPrinted>
  <dcterms:modified xsi:type="dcterms:W3CDTF">2004-09-16T18:46:50Z</dcterms:modified>
  <cp:revision>8</cp:revision>
  <dc:subject/>
  <dc:title>vertical slides</dc:title>
</cp:coreProperties>
</file>